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11.wmf" ContentType="image/x-wmf"/>
  <Override PartName="/ppt/media/image12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6.gif" ContentType="image/gi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73A-99B8-4068-9831-913207AD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426-F79F-482E-8EAA-7843F0F5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77F9-8597-42E4-B259-F7B62DFA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1DC3-7770-4DB0-829E-A61EF696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C23-9B5D-4B24-BE0F-7B1B7CB8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ADA-34B8-4FCC-9322-96646992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017-634F-420A-A742-582F8CD8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BFC-0D83-4890-923B-A85D4C60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17A-C50B-4208-827D-F0CD6684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F1F4-7F15-43E4-9075-054C36EE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E6E-FD73-4DAC-B372-A08BBBE4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A57-3705-4A99-86AA-6BF2F04C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F3C0-7961-40A1-A2B4-C813568B57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adikal.ru/F/i056.radikal.ru/1101/bb/8ba4210857c8.jpg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radikal.ru/F/i056.radikal.ru/1101/bb/8ba4210857c8.jpg.html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adikal.ru/F/i056.radikal.ru/1101/bb/8ba4210857c8.jpg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adikal.ru/F/i056.radikal.ru/1101/bb/8ba4210857c8.jpg.html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go.mail.ru/search_images?q=%EF%EE%E7%E4%F0%E0%E2%EB%E5%ED%E8%FF+%EA+17%EB%E5%F2+%E4%E5%ED%FC+%F0%EE%E6%E4%E5%ED%E8%FF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ser posted image">
            <a:hlinkClick r:id="rId1"/>
          </p:cNvPr>
          <p:cNvPicPr/>
          <p:nvPr/>
        </p:nvPicPr>
        <p:blipFill>
          <a:blip r:embed="rId2"/>
          <a:srcRect l="0" t="0" r="0" b="599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5219640" y="476280"/>
            <a:ext cx="3314880" cy="1695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4859280" y="4005360"/>
            <a:ext cx="2381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укописные данные 2" descr=""/>
          <p:cNvPicPr/>
          <p:nvPr/>
        </p:nvPicPr>
        <p:blipFill>
          <a:blip r:embed="rId1"/>
          <a:stretch/>
        </p:blipFill>
        <p:spPr>
          <a:xfrm>
            <a:off x="6734160" y="1050840"/>
            <a:ext cx="919080" cy="435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п\Pictures\5.PNG"/>
          <p:cNvPicPr/>
          <p:nvPr/>
        </p:nvPicPr>
        <p:blipFill>
          <a:blip r:embed="rId2"/>
          <a:stretch/>
        </p:blipFill>
        <p:spPr>
          <a:xfrm>
            <a:off x="5724360" y="981000"/>
            <a:ext cx="1898640" cy="1257480"/>
          </a:xfrm>
          <a:prstGeom prst="rect">
            <a:avLst/>
          </a:prstGeom>
          <a:ln w="0">
            <a:noFill/>
          </a:ln>
        </p:spPr>
      </p:pic>
      <p:pic>
        <p:nvPicPr>
          <p:cNvPr id="77" name="Рукописные данные 1" descr=""/>
          <p:cNvPicPr/>
          <p:nvPr/>
        </p:nvPicPr>
        <p:blipFill>
          <a:blip r:embed="rId3"/>
          <a:stretch/>
        </p:blipFill>
        <p:spPr>
          <a:xfrm>
            <a:off x="5603760" y="952560"/>
            <a:ext cx="2140200" cy="1504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user posted image"/>
          <p:cNvPicPr/>
          <p:nvPr/>
        </p:nvPicPr>
        <p:blipFill>
          <a:blip r:embed="rId4"/>
          <a:srcRect l="0" t="0" r="0" b="599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Айге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ела, добра, нежна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ерсидская княжн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Айка – маков цвет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ше нашей Айки нет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е фантазии больш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авидует любо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а энергии полн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 жизнь открыто влюблен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kukli-211"/>
          <p:cNvPicPr/>
          <p:nvPr/>
        </p:nvPicPr>
        <p:blipFill>
          <a:blip r:embed="rId1"/>
          <a:stretch/>
        </p:blipFill>
        <p:spPr>
          <a:xfrm>
            <a:off x="6180120" y="3429000"/>
            <a:ext cx="2963880" cy="3198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user posted image">
            <a:hlinkClick r:id="rId2"/>
          </p:cNvPr>
          <p:cNvPicPr/>
          <p:nvPr/>
        </p:nvPicPr>
        <p:blipFill>
          <a:blip r:embed="rId3"/>
          <a:srcRect l="0" t="0" r="0" b="5993"/>
          <a:stretch/>
        </p:blipFill>
        <p:spPr>
          <a:xfrm>
            <a:off x="0" y="9360"/>
            <a:ext cx="8893080" cy="6732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2193840" y="2276640"/>
            <a:ext cx="446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есела, добра, нежна,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к персидская княжна.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то Айка – маков цвет,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ше нашей Айки нет.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е фантазии большой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завидует любой.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на энергии полна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 в жизнь открыто влюблена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kukli-211"/>
          <p:cNvPicPr/>
          <p:nvPr/>
        </p:nvPicPr>
        <p:blipFill>
          <a:blip r:embed="rId4"/>
          <a:stretch/>
        </p:blipFill>
        <p:spPr>
          <a:xfrm>
            <a:off x="5867280" y="3292560"/>
            <a:ext cx="296388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user posted image">
            <a:hlinkClick r:id="rId1"/>
          </p:cNvPr>
          <p:cNvPicPr/>
          <p:nvPr/>
        </p:nvPicPr>
        <p:blipFill>
          <a:blip r:embed="rId2"/>
          <a:srcRect l="0" t="0" r="0" b="599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3702960" y="1123560"/>
            <a:ext cx="5237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усть твоя дорога будет ясной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ы не знай ни горести, ни бед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глянись, ведь жизнь прекрасн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тебе исполнилось 17 лет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к солнца луч весной сияе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ак пусть сияет жизнь твоя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усть сердце горя не узнает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бе желаю счастья я!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удь счастлива всегд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не грусти ты никогда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сли слезы в глазах — улыбайся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ы улыбкой своей покори всех парней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 верна одному лишь останься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user posted image">
            <a:hlinkClick r:id="rId1"/>
          </p:cNvPr>
          <p:cNvPicPr/>
          <p:nvPr/>
        </p:nvPicPr>
        <p:blipFill>
          <a:blip r:embed="rId2"/>
          <a:srcRect l="0" t="0" r="0" b="5993"/>
          <a:stretch/>
        </p:blipFill>
        <p:spPr>
          <a:xfrm>
            <a:off x="0" y="0"/>
            <a:ext cx="8964720" cy="6753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inde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1640" y="1916280"/>
            <a:ext cx="38037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user posted image"/>
          <p:cNvPicPr/>
          <p:nvPr/>
        </p:nvPicPr>
        <p:blipFill>
          <a:blip r:embed="rId1"/>
          <a:srcRect l="0" t="0" r="0" b="5993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1916280" y="-105840"/>
            <a:ext cx="693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сли 17 тебе только лет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се по плечу - невозможного нет!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бе мы желаем удачи без меры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дости, счастья, надежды и веры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усть тебя любят все безгранично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проживи свою жизнь на "отлично"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user posted image"/>
          <p:cNvPicPr/>
          <p:nvPr/>
        </p:nvPicPr>
        <p:blipFill>
          <a:blip r:embed="rId1"/>
          <a:srcRect l="0" t="0" r="0" b="599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042920" y="692280"/>
            <a:ext cx="612144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f5f0fc97c490ef1a038915e6ff529ac0_1876787305_800px"/>
          <p:cNvPicPr/>
          <p:nvPr/>
        </p:nvPicPr>
        <p:blipFill>
          <a:blip r:embed="rId1"/>
          <a:stretch/>
        </p:blipFill>
        <p:spPr>
          <a:xfrm>
            <a:off x="360360" y="341280"/>
            <a:ext cx="8423280" cy="61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user posted image"/>
          <p:cNvPicPr/>
          <p:nvPr/>
        </p:nvPicPr>
        <p:blipFill>
          <a:blip r:embed="rId1"/>
          <a:srcRect l="0" t="0" r="0" b="599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43" descr="Рисунок9.png"/>
          <p:cNvPicPr/>
          <p:nvPr/>
        </p:nvPicPr>
        <p:blipFill>
          <a:blip r:embed="rId1"/>
          <a:stretch/>
        </p:blipFill>
        <p:spPr>
          <a:xfrm>
            <a:off x="4143240" y="428760"/>
            <a:ext cx="4510080" cy="151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Рисунок 25" descr="Рисунок5.png"/>
          <p:cNvPicPr/>
          <p:nvPr/>
        </p:nvPicPr>
        <p:blipFill>
          <a:blip r:embed="rId2"/>
          <a:stretch/>
        </p:blipFill>
        <p:spPr>
          <a:xfrm>
            <a:off x="539640" y="1052640"/>
            <a:ext cx="3973680" cy="5118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5" descr="Рисунок7.png"/>
          <p:cNvPicPr/>
          <p:nvPr/>
        </p:nvPicPr>
        <p:blipFill>
          <a:blip r:embed="rId3"/>
          <a:stretch/>
        </p:blipFill>
        <p:spPr>
          <a:xfrm rot="428400">
            <a:off x="5532480" y="1479240"/>
            <a:ext cx="3778200" cy="42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8:07:18Z</dcterms:created>
  <dc:creator>Admin</dc:creator>
  <dc:description/>
  <dc:language>en-US</dc:language>
  <cp:lastModifiedBy>21</cp:lastModifiedBy>
  <dcterms:modified xsi:type="dcterms:W3CDTF">2013-01-09T12:22:10Z</dcterms:modified>
  <cp:revision>11</cp:revision>
  <dc:subject/>
  <dc:title>Слайд 1</dc:title>
</cp:coreProperties>
</file>